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F9FC-8368-42EB-AEF1-04548F30F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937B-8CDB-4CD1-BD98-7A592B72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4C60-3F6C-4356-B338-42DFAFFD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59A7-0ED3-49C5-A296-5DD5DBB4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7021-394A-456A-AB53-C3A421B0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9A9F-9F8F-4474-9B64-A98A0E23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1F8-B432-480F-B670-BF5BD58B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8EE-EA51-4515-BBFB-04DA9FAA3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20E9-1EB3-46BC-8E20-7410180E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7FA-04CE-4353-94F2-8CFE4FF5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9584-D059-43CB-B715-B9C16B6F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1B09-F626-4D19-9164-F5413507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74A2-7402-479C-A3CF-EA4748ACD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out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30557" t="38724" r="0" b="4033"/>
          <a:stretch/>
        </p:blipFill>
        <p:spPr>
          <a:xfrm>
            <a:off x="914400" y="1752480"/>
            <a:ext cx="7315200" cy="2971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3200400" y="3123720"/>
            <a:ext cx="297180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5105520"/>
            <a:ext cx="129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ing directions to Korean International School of Hong Ko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4 km18 min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5:01:38Z</dcterms:created>
  <dc:creator>student305</dc:creator>
  <dc:description/>
  <dc:language>en-US</dc:language>
  <cp:lastModifiedBy>student305</cp:lastModifiedBy>
  <dcterms:modified xsi:type="dcterms:W3CDTF">2010-03-23T05:23:22Z</dcterms:modified>
  <cp:revision>3</cp:revision>
  <dc:subject/>
  <dc:title>Route Map</dc:title>
</cp:coreProperties>
</file>